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E3FC-A1E4-41CD-A1D2-FAD20C351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A041-F8A6-4781-89D0-F8EB93A2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F9C6-5F37-431F-BC09-4DE847BE3E8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s leaders can encourage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parent education meeting will vary depending on its leade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in many families, parents are not the only family members involved in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710D-A6DF-4579-9A1D-0C982BFC9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Education Program planning should begin with a needs assessment to determine their needs and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2058-9C48-4DE3-BD4C-C129B0CB0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298-6990-4691-BB5C-2109394C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65C-983A-4449-B432-66AC028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A43-7480-4B45-BE7B-79A134E4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365-95B3-4BBA-ACA1-ED7B2F7F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6A67-AAB2-488F-A3F8-9825085C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8006-0D3B-48D8-B963-80157B57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914F-995C-4D86-9C8F-4EA10A2D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1C5B-8410-403B-B59B-7705E09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83F0-4423-416C-9383-0679C19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90E3-72E7-4FAB-9A44-75A888B9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AC8C-F5B5-418D-B707-EB88F118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6A4-79C7-49AF-8CE8-04D6A443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0990-3E7F-42C0-B1F3-8951D69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2B4-B27D-436E-AB24-08CCF88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D9FE-B856-4470-A299-B04B712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996B-674F-42FE-B45E-696B6FB5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E7D3-E3D8-42C2-89D2-A6C58DD8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13C-5610-42E3-8714-CF8AC52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EE2-35C2-4234-A93D-0BC50E99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595-6618-4070-BE1A-4ADAE9FE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B22-5ABE-47B4-A49B-53B3A003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2E0-1F93-4A25-B4FB-FC0191A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CD7-3CD9-409F-A02C-3A34C3E8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A2D-9DB8-48B5-8D6E-0B1B7E1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591-4B2B-448F-A2DA-50D0D141C8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380-6CD0-49A8-94C0-BDF9CF1F08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222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llaborative Leadership: Working with Par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3733920"/>
            <a:ext cx="6032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. Kristen Pennycuff T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Establishing a Positive Atmosp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120" y="1600200"/>
            <a:ext cx="8193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Icebreakers can create a warm and accepting atmosphere conducive to particip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105520" y="2743200"/>
            <a:ext cx="350496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After sea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yad 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I’ve Got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685800" y="2743200"/>
            <a:ext cx="419112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As group is gathe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ignature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Bingo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crambled Nam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Ro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1523880"/>
            <a:ext cx="819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R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: the behavior characteristic of a person occupying a particular position in the social system, influences actions of other person and expectations of others toward that pers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Understanding group roles prior to meeting can help members not fall into dysfunctional ro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Leaders can help alter member roles during a meeting to encourage effective particip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181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Role Descri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1523880"/>
            <a:ext cx="819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Task Oriented Ro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- initiate and keep the group discussion meaningful and ongo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Initiator-leader, Facilitator, Information giver, Information seeker, Clarifier, Orientator, Questioner, Asserter, Energizer, Elaborator, Opinion giver, Opinion seeker, summariz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Group-Building and Maintenance Roles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evelop and maintain the existence and quality of the gro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Encourager, Harmonizer, Listener, Follower, Tension Beaker, Compromiser, Standard setter, Observer, Recorder, Gatekee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Dysfunctional Ro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- interfere with achieving group go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Dominator, Aggressor, Challenger, Negativist, Flirtatious, Blocker, Competitor, Recognition seeker, Deser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ductive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371240"/>
            <a:ext cx="76197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listen and pay attention to one an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discuss the subject at h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Everyone’s ideas and suggestions are welcom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Everyone has a chance to state his or her view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group uses its agenda as a guide for discu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One or two members are appointed to summarize the discussion and to see that everyone has had a chance to spea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know and use problem-solving ste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are clear about group decisions and committed to them (MSU Extension, 1999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Less-Productive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Members do not listen and everyone tends to talk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discussion jumps from one idea to an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Some members’ ideas don’t seem to count, so they feel that they don’t be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One or two members do all the talk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agenda is not clear, and there is no written guide for discu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No one summarizes or checks to see if everyone who wants to speak has actually spoken. Discussions go on and on until people get tir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Arrangements for Meeting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2120" y="1600200"/>
            <a:ext cx="8192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Depending on meeting type, pre-meeting arrangements, set-up, meeting procedures, and appropriate topic will v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Parent meeting types inclu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TextBox 3" descr=""/>
          <p:cNvPicPr/>
          <p:nvPr/>
        </p:nvPicPr>
        <p:blipFill>
          <a:blip r:embed="rId1"/>
          <a:stretch/>
        </p:blipFill>
        <p:spPr>
          <a:xfrm>
            <a:off x="762120" y="3475080"/>
            <a:ext cx="81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your group, create a 10 minute demonstration of a particular type of meeting arran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olve all class mem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ef overview of setup and proced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priate top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Chapter Seven Over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12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Leadership in Parent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Discu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Ro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ductive Grou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Communication and collaboration is promoted when teachers value the input of parents and families and respect their cul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-Riojas-Cortez &amp; Flores (200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18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Leadership in Parent Edu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990360"/>
            <a:ext cx="8192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Ranges from nonprofessional with little training to trained professio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Unstructured meetings with no goals, curriculum or trained lea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led by lay leaders to get comments, solve a problem, study an issue, or become better acquaint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led by lay leaders who follow a curriculum devised by profession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MS PGothic"/>
              </a:rPr>
              <a:t>Active Parenting, Parent Effectiveness Training (PET), and Systematic Training for Effective Parenting (STE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called by a parent or professional that involve members and respond to their concerns with professional suppo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Principal leads and involves members of committee, leads them to decision with majority vo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called and led by a professional with participation by lay me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eetings called, led, directed, and controlled by the professional with members of the audience as observer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761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Interest find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Brainstorming se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y greatest concerns ar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My greatest happiness comes from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If I could eliminate one problem from my home it would b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s that concern me about my child’s education ar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s that concern me about my child’s development ar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As a parent, I hope to b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Open Ended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What do I want to know about my schoo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What do I want to know about my commun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MS PGothic"/>
              </a:rPr>
              <a:t>What would I like to do about my school and/or commun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Question Bo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Development of Objec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How Parents Learn B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Families will be more apt to be involved wh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re is a positive clim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ulture and language is respe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isk is elimin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y are possible contributions are recogn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y are involved in their own 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urriculum addresses concerns and is culturally relev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y discover need for change on their 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How Parents Learn Best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Families will be more apt to be involved wh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espect and encouragement are pres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eal situations and analogie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Positive feedback is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ifferent approache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ifferent sensory approaches ar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tinued learning beyond the personal cont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sidered part of the learning-teaching te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Group Discussion Format 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008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Informal Discussion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Stems from group interest/ne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Goals and objectives establish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vide for informal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Selects and analyzes relevant information discus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Outlines a plan of action, if des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  <a:ea typeface="MS PGothic"/>
              </a:rPr>
              <a:t>Problem Solving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Recognition of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Understand/Discuss nature of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Analysis of the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clusion and Summ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MS PGothic"/>
              </a:rPr>
              <a:t>Appropriate 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MS PGothic"/>
              </a:rPr>
              <a:t>Using Tech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internet allows for virtual communication among teachers, parents and student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MS PGothic"/>
              </a:rPr>
              <a:t>Benefits of some forms of virtual communication include flexible scheduling and meeting place, these can be great options for families with complex schedules or live far from schoo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MS PGothic"/>
              </a:rPr>
              <a:t>Virtual communication options include Email and Web Sit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1:47:23Z</dcterms:created>
  <dc:creator>Shane  Trent</dc:creator>
  <dc:description/>
  <dc:language>en-US</dc:language>
  <cp:lastModifiedBy>Trent Family</cp:lastModifiedBy>
  <dcterms:modified xsi:type="dcterms:W3CDTF">2011-10-19T16:02:31Z</dcterms:modified>
  <cp:revision>56</cp:revision>
  <dc:subject/>
  <dc:title>Sustaining Talk</dc:title>
</cp:coreProperties>
</file>